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34DB-1093-401A-838C-CACEF9931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D75D-432A-45CB-9031-8E478107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7316-4516-4C29-9B1C-23B330157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7CB6-7C8C-47F8-A7AB-10B1C57E3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518D-4337-442E-AFF1-7A93AD65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D5BB-B029-4BB2-8CBC-8D39B268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9A0B-086E-4B6A-85BD-8CE816F1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1940-8DAF-47C8-B6E8-B77FD35F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81CF-66B7-4023-80C6-A3409744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C623-9378-4207-8351-2AF987A0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FC57-5F4A-4661-8AC5-7D5C4B03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A1F0-CA0D-4DA9-85F3-DC6091A0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1FA5-65BE-481D-A5C3-2F03EE70F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914400"/>
            <a:ext cx="403884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iculum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ggins, G. &amp; McTighe, J. (1998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derstanding by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ubd_logo"/>
          <p:cNvPicPr/>
          <p:nvPr/>
        </p:nvPicPr>
        <p:blipFill>
          <a:blip r:embed="rId1"/>
          <a:stretch/>
        </p:blipFill>
        <p:spPr>
          <a:xfrm>
            <a:off x="4952880" y="544680"/>
            <a:ext cx="326412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Assess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l Checks for under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al qu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tions and Dialo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er observation of student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urse with stu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z and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tional paper and pencil form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-response or Constructed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ademic Prom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-ended prompts that require critical thin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Tasks and Proj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, open-ended, and authentic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rriculum Priorities and Assessmen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38098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itional quizzes and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per/penc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 tasks and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-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he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3494160" cy="4276800"/>
          </a:xfrm>
          <a:prstGeom prst="rect">
            <a:avLst/>
          </a:prstGeom>
          <a:ln w="0">
            <a:noFill/>
          </a:ln>
        </p:spPr>
      </p:pic>
      <p:sp>
        <p:nvSpPr>
          <p:cNvPr id="96" name="Line 6"/>
          <p:cNvSpPr/>
          <p:nvPr/>
        </p:nvSpPr>
        <p:spPr>
          <a:xfrm>
            <a:off x="4038480" y="304812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7"/>
          <p:cNvSpPr/>
          <p:nvPr/>
        </p:nvSpPr>
        <p:spPr>
          <a:xfrm>
            <a:off x="4038480" y="3048120"/>
            <a:ext cx="1600200" cy="8380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8"/>
          <p:cNvSpPr/>
          <p:nvPr/>
        </p:nvSpPr>
        <p:spPr>
          <a:xfrm flipV="1">
            <a:off x="4038480" y="4114440"/>
            <a:ext cx="1752840" cy="6094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9"/>
          <p:cNvSpPr/>
          <p:nvPr/>
        </p:nvSpPr>
        <p:spPr>
          <a:xfrm>
            <a:off x="4114800" y="4724280"/>
            <a:ext cx="1600200" cy="381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3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 Learning Experiences and Instruc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on the activities to engage stud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eaching methods,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nd of Direct Instruction, Constructivist Methods, Cooperative Learning Group Work, and Individual Activ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sequence of les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What is a “unit”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Unit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ig enoug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help us avoid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-managing our les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looking complex performance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Unit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mall enoug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help us avoid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gue and unhelpful planning, typically ending in “coverag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533520" y="13716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unit is a coherent set of lessons, organized around a theme, a performance, an idea, or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685800" y="60958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ubdexchange.org/user/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Overarching Unit El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during Understan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sential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brics or Scoring Gu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533520" y="182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elements that cut across units, courses, subjects, and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85800" y="60958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ubdexchange.org/user/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ward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84836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1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ntify Desired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e unit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the content standards (national, state, distri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curriculum expec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79246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Stage 1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ntify Desired Outcomes (Enduring Understandin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22860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es the idea, topic, or process have </a:t>
            </a:r>
            <a:r>
              <a:rPr b="1" i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enduring value beyond the classroo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6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es the idea, topic, or process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reside at the heart of the disciplin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6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what extent does the idea, topic, or process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require “uncoverage”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6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what extent does the idea, topic, or process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offer potential for engaging studen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Questions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orways to Understand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Group 32"/>
          <p:cNvGrpSpPr/>
          <p:nvPr/>
        </p:nvGrpSpPr>
        <p:grpSpPr>
          <a:xfrm>
            <a:off x="533520" y="2057400"/>
            <a:ext cx="7924320" cy="3886200"/>
            <a:chOff x="533520" y="2057400"/>
            <a:chExt cx="7924320" cy="3886200"/>
          </a:xfrm>
        </p:grpSpPr>
        <p:grpSp>
          <p:nvGrpSpPr>
            <p:cNvPr id="61" name="Group 30"/>
            <p:cNvGrpSpPr/>
            <p:nvPr/>
          </p:nvGrpSpPr>
          <p:grpSpPr>
            <a:xfrm>
              <a:off x="539640" y="2060640"/>
              <a:ext cx="7911000" cy="3878280"/>
              <a:chOff x="539640" y="2060640"/>
              <a:chExt cx="7911000" cy="3878280"/>
            </a:xfrm>
          </p:grpSpPr>
          <p:grpSp>
            <p:nvGrpSpPr>
              <p:cNvPr id="62" name="Group 15"/>
              <p:cNvGrpSpPr/>
              <p:nvPr/>
            </p:nvGrpSpPr>
            <p:grpSpPr>
              <a:xfrm>
                <a:off x="539640" y="2060640"/>
                <a:ext cx="3955320" cy="674280"/>
                <a:chOff x="539640" y="2060640"/>
                <a:chExt cx="3955320" cy="674280"/>
              </a:xfrm>
            </p:grpSpPr>
            <p:sp>
              <p:nvSpPr>
                <p:cNvPr id="63" name="Rectangle 4"/>
                <p:cNvSpPr/>
                <p:nvPr/>
              </p:nvSpPr>
              <p:spPr>
                <a:xfrm>
                  <a:off x="631080" y="2060640"/>
                  <a:ext cx="377172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Essential Question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Rectangle 14"/>
                <p:cNvSpPr/>
                <p:nvPr/>
              </p:nvSpPr>
              <p:spPr>
                <a:xfrm>
                  <a:off x="539640" y="2060640"/>
                  <a:ext cx="395532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Group 17"/>
              <p:cNvGrpSpPr/>
              <p:nvPr/>
            </p:nvGrpSpPr>
            <p:grpSpPr>
              <a:xfrm>
                <a:off x="4495320" y="2060640"/>
                <a:ext cx="3955320" cy="674280"/>
                <a:chOff x="4495320" y="2060640"/>
                <a:chExt cx="3955320" cy="674280"/>
              </a:xfrm>
            </p:grpSpPr>
            <p:sp>
              <p:nvSpPr>
                <p:cNvPr id="66" name="Rectangle 5"/>
                <p:cNvSpPr/>
                <p:nvPr/>
              </p:nvSpPr>
              <p:spPr>
                <a:xfrm>
                  <a:off x="4586400" y="2060640"/>
                  <a:ext cx="377244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Unit/Lesson Question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Rectangle 16"/>
                <p:cNvSpPr/>
                <p:nvPr/>
              </p:nvSpPr>
              <p:spPr>
                <a:xfrm>
                  <a:off x="4495320" y="2060640"/>
                  <a:ext cx="395532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9"/>
              <p:cNvGrpSpPr/>
              <p:nvPr/>
            </p:nvGrpSpPr>
            <p:grpSpPr>
              <a:xfrm>
                <a:off x="539640" y="2734920"/>
                <a:ext cx="3955320" cy="1254600"/>
                <a:chOff x="539640" y="2734920"/>
                <a:chExt cx="3955320" cy="1254600"/>
              </a:xfrm>
            </p:grpSpPr>
            <p:grpSp>
              <p:nvGrpSpPr>
                <p:cNvPr id="69" name="Group 8"/>
                <p:cNvGrpSpPr/>
                <p:nvPr/>
              </p:nvGrpSpPr>
              <p:grpSpPr>
                <a:xfrm>
                  <a:off x="631080" y="2734920"/>
                  <a:ext cx="3771360" cy="1119960"/>
                  <a:chOff x="631080" y="2734920"/>
                  <a:chExt cx="3771360" cy="1119960"/>
                </a:xfrm>
              </p:grpSpPr>
              <p:sp>
                <p:nvSpPr>
                  <p:cNvPr id="70" name="Rectangle 6"/>
                  <p:cNvSpPr/>
                  <p:nvPr/>
                </p:nvSpPr>
                <p:spPr>
                  <a:xfrm>
                    <a:off x="631080" y="2734920"/>
                    <a:ext cx="3771360" cy="61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Go to the heart of the disciplin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Rectangle 7"/>
                  <p:cNvSpPr/>
                  <p:nvPr/>
                </p:nvSpPr>
                <p:spPr>
                  <a:xfrm>
                    <a:off x="631080" y="3244680"/>
                    <a:ext cx="3771360" cy="61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" name="Rectangle 18"/>
                <p:cNvSpPr/>
                <p:nvPr/>
              </p:nvSpPr>
              <p:spPr>
                <a:xfrm>
                  <a:off x="539640" y="2734920"/>
                  <a:ext cx="3955320" cy="125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Group 21"/>
              <p:cNvGrpSpPr/>
              <p:nvPr/>
            </p:nvGrpSpPr>
            <p:grpSpPr>
              <a:xfrm>
                <a:off x="4495320" y="2734920"/>
                <a:ext cx="3955320" cy="1254600"/>
                <a:chOff x="4495320" y="2734920"/>
                <a:chExt cx="3955320" cy="1254600"/>
              </a:xfrm>
            </p:grpSpPr>
            <p:sp>
              <p:nvSpPr>
                <p:cNvPr id="74" name="Rectangle 9"/>
                <p:cNvSpPr/>
                <p:nvPr/>
              </p:nvSpPr>
              <p:spPr>
                <a:xfrm>
                  <a:off x="4586400" y="2734920"/>
                  <a:ext cx="3772440" cy="125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vide subject and topic specific doorways to essential question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Rectangle 20"/>
                <p:cNvSpPr/>
                <p:nvPr/>
              </p:nvSpPr>
              <p:spPr>
                <a:xfrm>
                  <a:off x="4495320" y="2734920"/>
                  <a:ext cx="3955320" cy="125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Group 23"/>
              <p:cNvGrpSpPr/>
              <p:nvPr/>
            </p:nvGrpSpPr>
            <p:grpSpPr>
              <a:xfrm>
                <a:off x="539640" y="3989520"/>
                <a:ext cx="3955320" cy="974880"/>
                <a:chOff x="539640" y="3989520"/>
                <a:chExt cx="3955320" cy="974880"/>
              </a:xfrm>
            </p:grpSpPr>
            <p:sp>
              <p:nvSpPr>
                <p:cNvPr id="77" name="Rectangle 10"/>
                <p:cNvSpPr/>
                <p:nvPr/>
              </p:nvSpPr>
              <p:spPr>
                <a:xfrm>
                  <a:off x="631080" y="3989520"/>
                  <a:ext cx="3771720" cy="97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cur naturally throughout one’s learning and in the history of the disciplin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Rectangle 22"/>
                <p:cNvSpPr/>
                <p:nvPr/>
              </p:nvSpPr>
              <p:spPr>
                <a:xfrm>
                  <a:off x="539640" y="3989520"/>
                  <a:ext cx="395532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Group 25"/>
              <p:cNvGrpSpPr/>
              <p:nvPr/>
            </p:nvGrpSpPr>
            <p:grpSpPr>
              <a:xfrm>
                <a:off x="4495320" y="3989520"/>
                <a:ext cx="3955320" cy="974880"/>
                <a:chOff x="4495320" y="3989520"/>
                <a:chExt cx="3955320" cy="974880"/>
              </a:xfrm>
            </p:grpSpPr>
            <p:sp>
              <p:nvSpPr>
                <p:cNvPr id="80" name="Rectangle 11"/>
                <p:cNvSpPr/>
                <p:nvPr/>
              </p:nvSpPr>
              <p:spPr>
                <a:xfrm>
                  <a:off x="4586400" y="3989520"/>
                  <a:ext cx="3772440" cy="97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ave no obvious “right” answ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Rectangle 24"/>
                <p:cNvSpPr/>
                <p:nvPr/>
              </p:nvSpPr>
              <p:spPr>
                <a:xfrm>
                  <a:off x="4495320" y="3989520"/>
                  <a:ext cx="395532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Group 27"/>
              <p:cNvGrpSpPr/>
              <p:nvPr/>
            </p:nvGrpSpPr>
            <p:grpSpPr>
              <a:xfrm>
                <a:off x="539640" y="4964400"/>
                <a:ext cx="3955320" cy="974520"/>
                <a:chOff x="539640" y="4964400"/>
                <a:chExt cx="3955320" cy="974520"/>
              </a:xfrm>
            </p:grpSpPr>
            <p:sp>
              <p:nvSpPr>
                <p:cNvPr id="83" name="Rectangle 12"/>
                <p:cNvSpPr/>
                <p:nvPr/>
              </p:nvSpPr>
              <p:spPr>
                <a:xfrm>
                  <a:off x="631080" y="4964400"/>
                  <a:ext cx="3771720" cy="97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aise other important question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Rectangle 26"/>
                <p:cNvSpPr/>
                <p:nvPr/>
              </p:nvSpPr>
              <p:spPr>
                <a:xfrm>
                  <a:off x="539640" y="4964400"/>
                  <a:ext cx="3955320" cy="97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Group 29"/>
              <p:cNvGrpSpPr/>
              <p:nvPr/>
            </p:nvGrpSpPr>
            <p:grpSpPr>
              <a:xfrm>
                <a:off x="4495320" y="4964400"/>
                <a:ext cx="3955320" cy="974520"/>
                <a:chOff x="4495320" y="4964400"/>
                <a:chExt cx="3955320" cy="974520"/>
              </a:xfrm>
            </p:grpSpPr>
            <p:sp>
              <p:nvSpPr>
                <p:cNvPr id="86" name="Rectangle 13"/>
                <p:cNvSpPr/>
                <p:nvPr/>
              </p:nvSpPr>
              <p:spPr>
                <a:xfrm>
                  <a:off x="4586400" y="4964400"/>
                  <a:ext cx="3772440" cy="97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re deliberately framed to provide and sustain student interes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Rectangle 28"/>
                <p:cNvSpPr/>
                <p:nvPr/>
              </p:nvSpPr>
              <p:spPr>
                <a:xfrm>
                  <a:off x="4495320" y="4964400"/>
                  <a:ext cx="3955320" cy="97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8" name="Rectangle 31"/>
            <p:cNvSpPr/>
            <p:nvPr/>
          </p:nvSpPr>
          <p:spPr>
            <a:xfrm>
              <a:off x="533520" y="2057400"/>
              <a:ext cx="7924320" cy="38862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2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termine Acceptable Evi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in terms of the “collected assessment evidence needed to document and validate that the desired learning has been achieved”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.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evidence ov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range of assessment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21:27:39Z</dcterms:created>
  <dc:creator>Gayle Y. Thieman</dc:creator>
  <dc:description/>
  <dc:language>en-US</dc:language>
  <cp:lastModifiedBy>Ben</cp:lastModifiedBy>
  <cp:lastPrinted>2003-04-02T20:43:05Z</cp:lastPrinted>
  <dcterms:modified xsi:type="dcterms:W3CDTF">2011-01-25T01:21:02Z</dcterms:modified>
  <cp:revision>2</cp:revision>
  <dc:subject/>
  <dc:title>Curriculum Design</dc:title>
</cp:coreProperties>
</file>